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D78-3E63-4DF4-AE90-2AD390F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4BD-48CF-45AE-B830-1AA4CE59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BD1-D958-4FD8-8BFD-5947D2D2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117-AF3F-4AE2-83A1-D9A4F94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9B8-F6C0-4357-BD50-7087187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5F9-5546-46DF-A8A2-1556B61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672-2E93-466B-B208-3455C41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721-BEE7-4051-8748-61625E9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C79-98A6-49A9-A236-3A6674F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20B-0827-4716-8D69-9267658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477-91E4-4940-8EED-BE0A994E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FD5-FE84-4E07-8962-88DB688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5B39-410E-4469-9FE3-ED5740CAE7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BF36B6B1-0F6F-493D-8CE7-76FF04D08F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420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227160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881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 (pl.) the voice/sound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DE29CB01-4411-4455-8BFD-C9BF1B496F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89CF2DBC-BA8A-4B31-8B02-7F46F483AD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love God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e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A79CAD19-28F1-4331-9AEB-96F1A3189B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 to speak? (or is speaking allow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hip the holy God! (or ‘you are worshipping the holy G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3640" y="1616040"/>
            <a:ext cx="3772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πτιζετε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39962C5D-B055-4BFF-91B9-6B6C8B648A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not walk (s.; in general)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497943AE-34D8-4153-910F-EB442651B4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4F132CB7-7E15-45BE-B02C-5E493E4BC5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7E6E209D-F063-4065-B137-8F4DF44CE5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157CE367-D151-4F05-A405-CD6AEEBEE1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9-08-09T10:39:52Z</dcterms:modified>
  <cp:revision>45</cp:revision>
  <dc:subject/>
  <dc:title>Slide 1</dc:title>
</cp:coreProperties>
</file>